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eme2.wav" ContentType="audio/x-wav"/>
  <Override PartName="/ppt/media/Categories.wav" ContentType="audio/x-wav"/>
  <Override PartName="/ppt/media/Daily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BCC-7B14-424D-A550-0102EC59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064-4991-4FBA-AD77-EA101392E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C88-7470-4C85-87AA-60BE32683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0B02-12C6-405F-8B55-57EB32A8D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01000" y="65527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eme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audio" Target="../media/Categories.wav"/><Relationship Id="rId4" Type="http://schemas.openxmlformats.org/officeDocument/2006/relationships/audio" Target="../media/Categori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752480" y="2666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ce to 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JEOPARDY!</a:t>
            </a:r>
            <a:endParaRPr b="0" lang="en-US" sz="9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ychology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7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e memory process that involves locating stored information and returning it to conscious thought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is type of storage strategy is used in education and involves people making meaning of new information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ad feelings that trigger sad feelings of another time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 semantic code represents information in terms of its…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bility to remember visual stimuli over long periods of time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is type of sensory memory is an “initial recording” and extremely brief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ithin this stage, how is the information received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ental traces of sound that can last several second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lso called “photographic memory” and dissipates as we get older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Tendency to recall the initial and finishing items in a series of items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1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066680" y="3049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JEOPARDY</a:t>
            </a:r>
            <a:r>
              <a:rPr b="1" lang="en-US" sz="6000" spc="-1" strike="noStrike">
                <a:solidFill>
                  <a:srgbClr val="ffffff"/>
                </a:solidFill>
                <a:latin typeface="Benguiat Frisky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743200"/>
            <a:ext cx="129564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7827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18456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8640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987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3915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7827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18456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58640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987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73915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80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17827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18456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58640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987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73915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380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17827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318456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458640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5987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73915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380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17827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318456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458640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5987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73915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38088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Kinds of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17827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Processes of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318456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Sensory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458640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Short-term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5987880" y="1447920"/>
            <a:ext cx="132588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Long-term</a:t>
            </a: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3915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Forget Me No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9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6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7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tion of items into familiar or manageable unit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Why is short-term memory also called “working memory”?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The ability to recall the last items in a series of item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Describe what happens when new information appears in short-term memory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Define long-term memory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Why do people use their own schemas in regards to long-term memory?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escribe the capacity of long-term memory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How is memory, specifically long-term memory, reconstructive?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ame a one useful way or technique (described in the book) that helps you store information to your long-term memory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The fading away of memory…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4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ily Double Graphic and Sound Effect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DO NOT DELETE THIS SLIDE!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Deleting it may cause the game links to work improperly.  This slide is hidden during the game, and WILL not app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slide view mode, copy the above (red) graphic (click once to select; right click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choose “copy”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e the answer slide which you want to be the daily dou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ght-click and choose “paste”.  If necessary, reposition the graphic so that it does not cover the answer tex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Name the memory task that involves identifying objects encountered before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Forgetting memories by pushing them out of one’s consciousness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The form of forgetting in which a person cannot remember the events from his or her early childhood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Memory loss from a trauma that prevents a person from forming new memories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General knowledge that people remember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Memory of a specific event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Learning to use a computer is an example of this kind of memory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It’s autobiographical and sometimes called a “flashbulb memory”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It is an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explicit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memory (clearly stated or explained)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Repeating information over and over again to keep from forgetting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02:28:20Z</dcterms:created>
  <dc:creator>Bill Arcuri</dc:creator>
  <dc:description/>
  <dc:language>en-US</dc:language>
  <cp:lastModifiedBy>Curtis Ranweiler</cp:lastModifiedBy>
  <dcterms:modified xsi:type="dcterms:W3CDTF">2012-11-09T15:24:53Z</dcterms:modified>
  <cp:revision>42</cp:revision>
  <dc:subject/>
  <dc:title>No Slide Title</dc:title>
</cp:coreProperties>
</file>